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A22-2D25-45DF-A360-C965787F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4DD-8823-46B0-A446-25F96CFD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26273-9D02-4467-813C-04DF87A7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7B72C-0409-4879-88A1-DFBD7EEB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04989-BB30-4CA8-B33B-D1D6376A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B9F1C-E5A1-4494-B881-AB87A860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D9678-3E83-4D14-A8CD-72490AB4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359D5-042E-4D4A-B6AD-44B1D308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D1C81-52A9-4074-BDF6-4D1AB3D5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5F1FE-3FF5-4657-8B88-69BB84F6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4CF48-9C27-44AD-9398-471A9976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EE29E-4B6C-4A75-897E-3058BE24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D1A-0255-4417-809D-96B754AE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24BD8-62FE-4EDA-AAC1-AB393BE9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CBF26-0DD1-4876-BD8E-3756A6DF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5F50C-078D-4D14-BBA8-02709635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A9E48-7A9C-4C79-9DBF-BA14E578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F9885-2228-401B-93AB-C3151303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10EBBE-2BD6-47A8-A5A7-5AF3C6DD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C7C74-B8AD-49B6-8006-6BF96260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97BC4-38AA-48D7-BCF6-16C05E4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C08B5-DFE6-4368-8117-1827C972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72756-EC26-4A85-B4E0-850431AC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5A6-0733-41DB-A271-F52A5A51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FFC27-1D40-435C-B88E-A6B9FC56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A8129-4F3B-454F-B4D7-E7556A62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94931-C189-4D94-A95A-D66D5B1B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27F4B-8E20-4A32-8C86-BFC753BF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A8F51-369D-4356-9991-0C03D01C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518BC-BA9D-4C6E-A234-3258C4A6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43098-2287-495A-92DA-794EF2D9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0F7AF-D691-4908-A5A4-CBA45DB8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83D0B-385F-4FE2-9028-E05FCF1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3588F-0FD2-422B-841E-FC8C0D19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308E-A80B-44EF-80F4-9DC6F6FA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08231-DE52-487A-841B-7DD902BD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991F4-98CA-47B4-926F-EFA2BECA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4379B-0920-4CBE-B330-B3084851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5AA69-5809-4CE1-9304-2356CF44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9798A-A56C-4456-8DD2-BA79FCC9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4B425-91CC-4998-85AA-8CB7803C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64C9C-00DA-4F0C-A9C0-2BFFA0EE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4A50A-8DB4-4E55-A685-98FB0758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F1361-3418-4E1D-8A2B-DE33052C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22CBF-BD20-4B0D-8278-D32E7C42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C874-CD83-4C58-91C0-93884BBA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09C71-4EFB-4499-8E67-C477ED11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9A29F-3F2F-4517-9B89-3B539D7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09B42B-9105-4092-9B46-78BF23AC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273E1-5821-4D6E-A287-F25924DE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12042-7135-42C7-9C44-D305A884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8B85-7D76-46E8-B2DC-DEC67F60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E542-2D07-41B5-ABB8-EA2D6590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A500-AC29-4E26-A61E-C2B41214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1BAC-9262-4CC4-91B3-463FADDD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81C2-D968-40D5-9B5E-D9884242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A54-F3A8-49EA-8BBF-994F3DDC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9049-4D7C-4BD8-AF2A-A4B584C5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451C-3F0F-4A4D-8808-7861C3C0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C44A-F807-4F27-A0B8-A0A88A01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FA5C-56D9-4B08-AA3E-85B03AFA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6293-58FA-4BCD-BC70-97CDDC4E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5A5F0-5E04-4B1A-8DF9-D3848B1F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B23F3-D117-4E06-9CDB-BD6C9EE7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0B747-3197-4DAA-BB70-197DF331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34BD-EC44-467D-B7B0-E8EA6D77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9871-B989-44B2-9A52-9F609270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F22-0919-43E1-9C81-1A04E647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26870-A372-41FF-9994-277FA0CC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9AB49-0B89-4385-8C85-526667CC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3544B-75C7-4974-A8D7-B693A24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4195-A601-42AE-9D89-05C45AA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2FCF-E949-4C14-9295-877A4E03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B7FA2-79FE-4CFC-8CA8-1339948D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DBE4-CE99-4E73-A0B7-D7492921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92F6A-9CEE-4F74-865C-EAEB9DBD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97978-79B0-400E-A72C-E8B88BB7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B965-39DE-425F-9E64-D37F2A59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85A-E9B5-46C9-BEFC-2D3C2E0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E7151-2A4F-4B50-B2E2-0E915EA7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195E1-9BD1-49E2-AD9F-9F8DDD0D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C4121-AD6E-4C22-A314-0F155A63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D4530-8F70-4EDB-B089-6E80B230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474C-EAE7-4E23-826C-AC170FEC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041B-9159-48CC-A079-B6F7934A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3278-2AFE-41CE-AB12-B41A5777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6EAA9-035A-44C3-9DF6-053508D6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EAF1D-D62E-43AA-AC31-AF401824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A65DC-93D2-42F9-B262-55979369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7F2-4547-4F19-A3B9-75CE9694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006A5-E1FC-4EBD-A313-27DE96A7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7122-A28D-4246-A237-50CAEA3C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30DB-B32B-45ED-8890-DB38508D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DD4A4-2265-44B9-9FC1-CA45E595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8BCA9-7AB0-4D84-8C85-DA3E10E5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13844-B2D9-4349-A406-E36C423F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36553-910A-41B2-AC9A-D41925E8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C5A10-778B-4CE6-9BC5-D3147045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9754-A32A-4B88-8CD7-E8968E44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C1E7E-D967-47A3-9CA9-AA3997EF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34F-07A4-449B-85DE-9545BB65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E2D3D-D601-4511-8E12-E9C93D1C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F0DCA-0431-4AA4-90BF-9B9CA213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84B7B-AADB-4717-A034-1BA4E53D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7E895-192E-4306-93AF-E32DC742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B3496-10CA-4AC4-826C-2835A0BB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B0807-F8E4-49C9-BA65-A890C6F8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7231-44FD-460C-BB14-995658BA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DB7FE-BF33-4980-B43D-69E1B92B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5A1E5-E1A9-46E9-A12B-2C1F6535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311F-A292-4D35-852F-C1887E0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736-0FC0-465C-9859-4113512C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E23F4-2F11-4F96-84F6-60871B30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E4217-0E01-4792-A07D-14A64D05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D2024-A775-403D-AA51-7F2F09D6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5383E-9450-42D1-B2EC-7E0999F3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69F6C-57F0-4B97-9FB5-EF560910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C19A6-9FC1-4343-8F4C-E6FCE8A1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0414E-506D-466C-889B-A799D13D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26C46-3F28-427B-AAE6-471465DC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841D2-3A47-4BF7-BF38-41C53EE3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94CF1-E293-4EC3-A886-008FB9C1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048-FA96-4ECC-B228-6DE52A5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BB8A4-AFE4-48AD-92D1-F4E24789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F104E-B7B1-4E6F-8935-C2228755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3F9C5-10AA-4B36-8509-178AFD90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C52B5-3B0C-432B-A8B5-D02BC269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59AD-EFCB-4142-9CEC-C474CFCE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C6E28-CE8B-4BF8-9AA2-B78943AF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79BA0-6833-466C-8F75-6BC848C6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9BD96-0BED-4DAC-9770-73FC438D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329D-E809-4BC7-AD05-08B78520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B8DF2-67CB-4DDB-9290-FDF0FD68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BBF-B51E-432B-985A-2685BFA0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5D8FB-DB38-4FE7-945D-A1071C90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6EB66-355A-4325-A20A-1329908B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76C41-C390-43A7-B8B7-BC75BE8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EBC99-0B65-432A-805E-B172141E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C17A2-7BAB-4233-9CD8-DEF238C1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81E8E-905D-4DD2-A563-55443D4F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F2422-0441-44A3-886B-7680246C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4BF00-5C41-4503-8480-CCE5E4F9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B8A3F-6E83-46C4-A03F-F6FFEDBB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B7F1F-5805-412B-A1FF-F457AE99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5867-308F-49B7-93ED-B3984A182C2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47BB-2507-4907-8CA6-3D5DBCE0B5D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E941-D444-4992-98B0-6054CA7114E8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4377-D4D9-46A7-A039-09E0C7DE88D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C7BC-0DB4-4085-BEF4-C632711027C9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3421-D1F3-49D9-B9DD-B63E22387025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E0CF-135F-4933-95C9-70449A1F267D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2C55-1FB3-4069-B4A5-0F219731B79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BB6E-605F-4E2C-AA17-0BA3847D3639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4B37-2A75-4218-A961-31038825F44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81E2-C974-45F5-80E0-B752668A7B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DA5F-1E6D-496D-8019-984C61C94593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Investigation of Tribological and Mechanical properties of Metal Bearings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914400" y="1523880"/>
          <a:ext cx="6858000" cy="1177920"/>
        </p:xfrm>
        <a:graphic>
          <a:graphicData uri="http://schemas.openxmlformats.org/drawingml/2006/table">
            <a:tbl>
              <a:tblPr/>
              <a:tblGrid>
                <a:gridCol w="1170000"/>
                <a:gridCol w="708120"/>
                <a:gridCol w="1224000"/>
                <a:gridCol w="1011240"/>
                <a:gridCol w="866520"/>
                <a:gridCol w="938160"/>
                <a:gridCol w="93996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AE 1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533520" y="3581280"/>
          <a:ext cx="7391160" cy="2527560"/>
        </p:xfrm>
        <a:graphic>
          <a:graphicData uri="http://schemas.openxmlformats.org/drawingml/2006/table">
            <a:tbl>
              <a:tblPr/>
              <a:tblGrid>
                <a:gridCol w="1066680"/>
                <a:gridCol w="557280"/>
                <a:gridCol w="560160"/>
                <a:gridCol w="560520"/>
                <a:gridCol w="639720"/>
                <a:gridCol w="561960"/>
                <a:gridCol w="631800"/>
                <a:gridCol w="631800"/>
                <a:gridCol w="561960"/>
                <a:gridCol w="561960"/>
                <a:gridCol w="567000"/>
                <a:gridCol w="49032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Sn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Zn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uM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nPbCu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Rectangle 1"/>
          <p:cNvSpPr/>
          <p:nvPr/>
        </p:nvSpPr>
        <p:spPr>
          <a:xfrm>
            <a:off x="276120" y="16200"/>
            <a:ext cx="72216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 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TABLE 1. Chemical composition of Journal Materials (Wt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 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TABLE 2. Chemical composition of Bearing Materials (Wt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Operating cond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aring speci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ner diameter – 10+0.05 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dth 10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uter diameter 15 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losses measured un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ubricated conditions of 20 N l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500 rpm (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ν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0.785 m/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me interval of 30 min(7065 m sliding distanc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E 90 Gear oi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Apparatus us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adial journal bearing wear test ri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crostructures of wear surfaces -optical and scanning electron microsco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ŞA type tensile test ri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dness SADT HARTIP-3000 ty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70c0"/>
                </a:solidFill>
                <a:latin typeface="Georgia"/>
              </a:rPr>
              <a:t>SADT HARDNESS TESTER HARTIP 300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TIP 3000 is an advanced hand-held digital metal hardness tester ,high   accuracy, wide measuring range  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sily operat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dness of all metals -large structure/assembled component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4" descr="F:\tribology\LLLLLLLOOOOOOOOKKKKKKKEEEEEEE\993.jpg"/>
          <p:cNvPicPr/>
          <p:nvPr/>
        </p:nvPicPr>
        <p:blipFill>
          <a:blip r:embed="rId1"/>
          <a:stretch/>
        </p:blipFill>
        <p:spPr>
          <a:xfrm>
            <a:off x="4952880" y="3886200"/>
            <a:ext cx="3981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1320" y="1527120"/>
            <a:ext cx="8504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asuring principle- the quotient of th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act body's rebound and impact velocity, multiplied by 1000."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ungsten Carbide test tip is propelled by spring force against the test surf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permanent magnet is contained within the impact bo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it passes through the coil on impact dev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duces an electric voltage which is proportional to the velocity of the impact bod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70c0"/>
                </a:solidFill>
                <a:latin typeface="Georgia"/>
              </a:rPr>
              <a:t>SADT HARDNESS TESTER HARTIP 300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70c0"/>
                </a:solidFill>
                <a:latin typeface="Georgia"/>
              </a:rPr>
              <a:t>KEY FEATUR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st in any dire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accu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ght we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all metallic materi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 impact devices interchange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nu oper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ta management softwa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y to standard ASTM A95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3" descr="F:\tribology\LLLLLLLOOOOOOOOKKKKKKKEEEEEEE\productlist.asp_files\Hartip3000.jpg"/>
          <p:cNvPicPr/>
          <p:nvPr/>
        </p:nvPicPr>
        <p:blipFill>
          <a:blip r:embed="rId1"/>
          <a:stretch/>
        </p:blipFill>
        <p:spPr>
          <a:xfrm>
            <a:off x="6019920" y="1371600"/>
            <a:ext cx="2971800" cy="3048120"/>
          </a:xfrm>
          <a:prstGeom prst="rect">
            <a:avLst/>
          </a:prstGeom>
          <a:ln w="9360">
            <a:solidFill>
              <a:srgbClr val="1e1c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adial Journal bearing wear test ri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Comparator.2. Rigid bar.3. Load contact point (rolling bearing).4. Journal sample.5. Journal bearing samples.6. Plate bar.7. Motor.8. Loa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2" name="Picture 2" descr="C:\Documents and Settings\Administrator\Desktop\fig 1.jpg"/>
          <p:cNvPicPr/>
          <p:nvPr/>
        </p:nvPicPr>
        <p:blipFill>
          <a:blip r:embed="rId1"/>
          <a:stretch/>
        </p:blipFill>
        <p:spPr>
          <a:xfrm>
            <a:off x="457200" y="3048120"/>
            <a:ext cx="7696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adial journal bearing wear test ri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ystem formed b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ight applied by rigid b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eel bar connected to the bearing from a d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at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nsile spring connected opposite side to comparator k=0.04N/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esult and discus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b0f0"/>
                </a:solidFill>
                <a:latin typeface="Georgia"/>
              </a:rPr>
              <a:t>SURFACE ROUGHNESS PROPER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alues of CuSn10 and CuZn30 decrea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other bearings increased after wear t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Documents and Settings\Administrator\Desktop\UntitleZZZd.png"/>
          <p:cNvPicPr/>
          <p:nvPr/>
        </p:nvPicPr>
        <p:blipFill>
          <a:blip r:embed="rId1"/>
          <a:stretch/>
        </p:blipFill>
        <p:spPr>
          <a:xfrm>
            <a:off x="228600" y="2286000"/>
            <a:ext cx="8381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Wear 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9" name="Picture 2" descr="D:\TRIBOLOGYYYYYYYYYY\New Folder\rscale\fig 2 RESCALE.png"/>
          <p:cNvPicPr/>
          <p:nvPr/>
        </p:nvPicPr>
        <p:blipFill>
          <a:blip r:embed="rId1"/>
          <a:stretch/>
        </p:blipFill>
        <p:spPr>
          <a:xfrm>
            <a:off x="380880" y="1523880"/>
            <a:ext cx="7086600" cy="410364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3"/>
          <p:cNvSpPr/>
          <p:nvPr/>
        </p:nvSpPr>
        <p:spPr>
          <a:xfrm>
            <a:off x="209880" y="28440"/>
            <a:ext cx="83174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2. Friction coefficient-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f0"/>
                </a:solidFill>
                <a:latin typeface="Georgia"/>
              </a:rPr>
              <a:t>           </a:t>
            </a:r>
            <a:r>
              <a:rPr b="1" lang="en-US" sz="3500" spc="-1" strike="noStrike">
                <a:solidFill>
                  <a:srgbClr val="00b0f0"/>
                </a:solidFill>
                <a:latin typeface="Georgia"/>
              </a:rPr>
              <a:t>Introductio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 , Aluminium and Lead-common journal bearing materia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onze and Brass- Copper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amacs - Zinc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uralumines - Aluminium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te metals- Tin lead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sent study- Tribological and mechanical properties of these journal bearings materia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D:\TRIBOLOGYYYYYYYYYY\New Folder\rscale\fig 3.png"/>
          <p:cNvPicPr/>
          <p:nvPr/>
        </p:nvPicPr>
        <p:blipFill>
          <a:blip r:embed="rId1"/>
          <a:stretch/>
        </p:blipFill>
        <p:spPr>
          <a:xfrm>
            <a:off x="380880" y="457200"/>
            <a:ext cx="4924440" cy="28576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D:\TRIBOLOGYYYYYYYYYY\New Folder\rscale\fig 4.png"/>
          <p:cNvPicPr/>
          <p:nvPr/>
        </p:nvPicPr>
        <p:blipFill>
          <a:blip r:embed="rId2"/>
          <a:stretch/>
        </p:blipFill>
        <p:spPr>
          <a:xfrm>
            <a:off x="457200" y="3733920"/>
            <a:ext cx="5133960" cy="290484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5"/>
          <p:cNvSpPr/>
          <p:nvPr/>
        </p:nvSpPr>
        <p:spPr>
          <a:xfrm>
            <a:off x="0" y="167760"/>
            <a:ext cx="8991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3. Temperature–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4. Wear losses bearing–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D:\TRIBOLOGYYYYYYYYYY\New Folder\rscale\fig 5.png"/>
          <p:cNvPicPr/>
          <p:nvPr/>
        </p:nvPicPr>
        <p:blipFill>
          <a:blip r:embed="rId1"/>
          <a:stretch/>
        </p:blipFill>
        <p:spPr>
          <a:xfrm>
            <a:off x="1219320" y="457200"/>
            <a:ext cx="4943520" cy="29336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1143000" y="3954600"/>
            <a:ext cx="5257800" cy="29034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3"/>
          <p:cNvSpPr/>
          <p:nvPr/>
        </p:nvSpPr>
        <p:spPr>
          <a:xfrm>
            <a:off x="0" y="16884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5. Wear losses journal–time variation of metal bear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6. Comparison of wear rates of bear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Mechanical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echanical properties Bronze, Brass and Duralumin bearing materials occurred GREATER than Zamac and Tin–lead based white metal bearing material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ardness of all specimens 100 HB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9" name="Picture 2" descr="D:\TRIBOLOGYYYYYYYYYY\New Folder\Ussssssssntitled.png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Microstructure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6002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ecimens examined under optical and scanning electron microscop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D:\TRIBOLOGYYYYYYYYYY\New Folder\fig 7.png"/>
          <p:cNvPicPr/>
          <p:nvPr/>
        </p:nvPicPr>
        <p:blipFill>
          <a:blip r:embed="rId1"/>
          <a:stretch/>
        </p:blipFill>
        <p:spPr>
          <a:xfrm>
            <a:off x="380880" y="2514600"/>
            <a:ext cx="8325000" cy="28954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3"/>
          <p:cNvSpPr/>
          <p:nvPr/>
        </p:nvSpPr>
        <p:spPr>
          <a:xfrm>
            <a:off x="0" y="29520"/>
            <a:ext cx="8991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  <a:ea typeface="Calibri"/>
              </a:rPr>
              <a:t>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7. Microstructure of wear surfaces of metal bea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(a) CuSn10, (b) CuZn30,(c) ZnAl, (d) AlCuMg2 and (e) SnPbCuSb (× 1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Bodoni MT Black"/>
              </a:rPr>
              <a:t>Figure 8. SEM microstructure of wear surface of metal bearings: (a) CuSn10, (b) CuZn30, (c) ZnAl, (d) AlCuMg2 and (e) SnPbCuSb (× 1000</a:t>
            </a:r>
            <a:r>
              <a:rPr b="0" lang="en-US" sz="1800" spc="-1" strike="noStrike">
                <a:solidFill>
                  <a:srgbClr val="00b0f0"/>
                </a:solidFill>
                <a:latin typeface="Bodoni MT Black"/>
              </a:rPr>
              <a:t>).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Content Placeholder 3" descr="D:\TRIBOLOGYYYYYYYYYY\fig 8.png"/>
          <p:cNvPicPr/>
          <p:nvPr/>
        </p:nvPicPr>
        <p:blipFill>
          <a:blip r:embed="rId1"/>
          <a:stretch/>
        </p:blipFill>
        <p:spPr>
          <a:xfrm>
            <a:off x="533520" y="1447920"/>
            <a:ext cx="746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b0f0"/>
                </a:solidFill>
                <a:latin typeface="Bodoni MT Black"/>
              </a:rPr>
              <a:t>Figure 9. SEM microstructure of tensile fracture surface of metal bearing materials: (a) CuSn10, (b) CuZn30, (c) ZnAl, (d) AlCuMg2 and (e) SnPbCuSb (× 500).</a:t>
            </a:r>
            <a:br>
              <a:rPr sz="3000"/>
            </a:b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Content Placeholder 3" descr="D:\TRIBOLOGYYYYYYYYYY\fig 9.png"/>
          <p:cNvPicPr/>
          <p:nvPr/>
        </p:nvPicPr>
        <p:blipFill>
          <a:blip r:embed="rId1"/>
          <a:stretch/>
        </p:blipFill>
        <p:spPr>
          <a:xfrm>
            <a:off x="457200" y="1371600"/>
            <a:ext cx="74674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Conclus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st wear values of surface roughness decreased in CuSn10 and CuZn30 and increased in other bearing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highest friction coefficient and bearing temperature occurred in CuSn10 and CuZn30 bearin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west friction coefficient and bearing weight loss occurred in other ZnAl, AlCuMg2 and SnPbCuSb bearing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highest journal weight loss occurred at CuZn30 and AlCuMg2 bearing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highest bearing wear rate occurred in CuSn10and CuZn30 bearing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owest bearing wear rate occurred in ZnAl bearing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mechanical properties of CuSn10, CuZn30 and AlCuMg2 bearing materials were better than those of ZnAl, and SnPbCuSb bearing material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Reference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ffects of lubricants on the properties of copper-tin powders and compacts, Advances in P/M, Proc. Of PM conf., APMI, N. Jersey, pp 303–3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sign of radial journal bearing wear test rig, Conference of Mach. Mater. and Technol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uidelines for designing zinc alloy bearings— a technical manual, Soc. Auto Eng., Paper no: 88028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istory of Tribology (London: Profes. Eng. Pub.), p. 76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vestigation of Tribological properties Zn–Al based journal bearings, Master thesis, Karadeniz Technical University, Trabzon, Turkey (in Turkish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Trib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cience and technology of interacting surfaces in relative motion and of related sub and practi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als wit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chnology of lubr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prevention of surfaces having relative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o main constituent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reases service life of machine el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Historical backgrou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rlier Wood Iron and Sk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ter Brass and Bronz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urrently Aluminium and Zinc based materia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chnological improvements Self-lubricated sintered bearings –continuous lubrication impossi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fore its essential bearing materials be chosen depending upon area of appl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resistance most important property that journal bearings materials must pos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Types of journal bearing materials and their properties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thermal and Electrical conductivity, self Lubricating property, Good corrosion and Wear 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 based tin bronze- High wear 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and wear properties can be improved by adding tin-Tin Bronze (90% Cu 10% S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n Bronze- Corrosive condition, High temperature and loa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Zinc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inc based alloys -world war II as compensate for copper deficiency in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ibological and mechanical properties improv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t treat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ition of Mn,Si,and C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w cost, Good Physical Tribological and mechanical properties and wear resista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Aluminium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where corrosion is probl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resistance of Si added Al is greater than Al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od Castability , Thermal conductivity and weldabi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Lead and tin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ti friction proper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duced by casting and spray depos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rmetallic pha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 seizure and Good wear resista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Preparation of Experimental Material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91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ournal Bearing Materi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Sn10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nz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Zn30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ZnAl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ZAMA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CuMg2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uralum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PbCuSb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 met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ft(journal)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E 105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6:03:05Z</dcterms:created>
  <dc:creator>Mechanical Engineering Project</dc:creator>
  <dc:description/>
  <dc:language>en-US</dc:language>
  <cp:lastModifiedBy>Brigade</cp:lastModifiedBy>
  <dcterms:modified xsi:type="dcterms:W3CDTF">2011-08-09T04:45:54Z</dcterms:modified>
  <cp:revision>0</cp:revision>
  <dc:subject/>
  <dc:title>Mechanical Engineering Project</dc:title>
</cp:coreProperties>
</file>